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35A-1736-4479-870B-404C1627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5A0-A0F9-4766-8B19-E5DC248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315A6-9F07-41D3-B3C4-A6DCAC0E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1C64-1105-4035-8FCB-6790369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42420-B363-4A49-B7C5-1953F1E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451A9-5789-4B06-A0B6-471BCBD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1925C-C427-44AB-B079-8DBB9C0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E43E2-9D77-4A75-87BA-B3EF39D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4721A-9ED0-4C1D-A1F6-A502CDCC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2FC90-0F76-421D-9FE3-2940BB11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73BA-ADB0-46AF-BB0C-71E47706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2E2B-24C9-4FF7-B4A7-651A2500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1A1-0E4A-47B3-B50C-933A740D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7083E-D21E-4203-A044-84B451A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64FED-C49E-4F38-81FE-9DA65FA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40C7-4169-4099-981D-F23B950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7BA69-8E1F-4507-90E9-637A1E9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FA6B1-CDC5-461B-96BA-33204377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5C27A-74E4-499B-8781-A892749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7B462-AC4D-4B27-A484-5072BCF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90F8D-5326-4C8E-AA1C-DA12581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7700-949E-421C-8013-117D4E3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AF591-3100-4264-BF4B-F25C82C2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F30-08E5-4C6B-AECD-7E3597DE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6CDF-2156-404A-A469-1E48AEC0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C8E8-98FE-4020-9DEA-7E3AF90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DC68-04EC-43AB-817E-CD643C1B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14CB0-2513-4C99-B048-23E62C2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513C-3875-46F3-A833-A3B66C50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0801-F882-4F87-B929-4A98B8C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97B6-6D7B-4291-AC39-181633B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EBB92-EC9D-4B01-A5B5-2DFA511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8C85-2EBC-4B29-82C9-AC9898D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9DCB-F210-44F2-A16A-9C58143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3B5-D43D-48DF-8F4A-26488F47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0A704-7F32-41EE-81DE-8AABE2AD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C55B0-C242-4496-9CAC-30F1138B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E1C24-995F-4C12-A3F9-FEBCE70A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BDE6E-9858-4D4C-BED4-333CDC9B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55088-BE7D-4ABD-9B88-1B4F6A9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12EDB-4B7B-4D95-9481-0BA9508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63EE3-3DB8-4C4C-B010-8B7431A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04C45-226F-4912-B63D-AB41829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7D34B-39CE-4AC9-923A-6773D253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C49A4-6ABA-430A-84A7-91BCCFE6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6BC-D817-4E6F-A722-1B74395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75488-CEF5-4030-BF21-BF2C80C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1853B-BA97-4BEA-8A8A-62A3E8B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9DCBB-F921-4974-8F36-E807F2B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9AA1B-1B88-4A7D-A4B6-046327A6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C84AF-DC59-45A2-9798-F6FC02F7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9DC-F9B6-418C-85F5-21A9523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5D0B-8B10-4DFD-8E1C-453E530A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FE07-E34D-4F91-8B59-C14FA60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C93D-753A-4A9E-9993-69A6F4A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F46A-3D2D-416A-B961-74490CD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DEC-8530-4078-BBC3-70000C1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BC86-1DF2-45BE-8AFD-6CC53C1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64E-5BAF-42DD-8522-0A27C88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EA94-1FCB-451E-925A-D3FFC54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10B-B59B-4B6D-B23B-26921A5B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0D36-730C-426C-88B4-F653881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7149-15BD-44C1-A9D4-88B14ED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D5EE-4125-4DB8-AA28-C6A08C72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DD54-1D6A-4374-8E0B-1DDEF1E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BA52-F6E9-402C-BB0A-4541903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49E5-75A7-4D94-9A9F-C0F0E85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A3-DD34-490B-BD83-A4ABE51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0693-4957-4552-BCCC-213C9470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3E71-4078-4653-A4A0-FB69095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6F1B-C486-4A9D-8CB9-40BD959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A0C4-E2E6-474E-8634-EF031E4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732D-444E-439B-9AE1-C2A3FB1E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6E78-309E-4DF7-A76D-A9441152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AB9D-400B-4E28-8C1B-139EB0D6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D005-02CA-4F94-8CFE-105C048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64DC-3DB7-4D83-A09E-6B1CC2AC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BA81-49D7-4009-B091-D135979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5A8-6C24-4AE8-BA02-B11865A2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769D8-5894-41C0-BB12-EDFD9765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12A2-0B5B-4976-918D-4E9E06B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59DF-CB53-4AA0-90EA-2DACF6F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D62E-E4FA-4C76-993F-F24AB9D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2E00-286A-434C-AF76-C13F7BB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F76A-BABD-42E2-80FB-E5290E8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53F3-B8B5-40D8-8B2E-D099F7AC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95D6-55D0-457C-8548-A05699DB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BA72-1B10-414F-9D9F-2AE0E077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BC93-1586-4042-AFF5-681F58B2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D70-5611-4E9F-B90D-6D8E7B3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23BF-9215-4B10-A22B-92C7F383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629F-1427-4E25-A83C-6E91ADAA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9322-01C4-4F4F-B6A7-E2053FA9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3B12-2EBC-4F39-A0F9-D8EAD4C7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3337-B34A-4A9A-A41C-BA65445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6916-9BE8-46F4-98ED-5D35808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FD18C-B751-40CD-AAB7-898DE68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7994-7606-4D07-BDFE-95AA2E3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6997-1F26-4785-9E42-2D24246C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1521-E2EE-4987-9516-EBB3D0D0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07F-152F-40C2-BDFB-A4073AE3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77F0-A106-42BF-8B5D-E04C2EC0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F001D-0FEF-4F19-9DA0-60E1C4B0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18EED-9FDA-4C9D-8CDD-32D34CB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3B07-34D8-4B4B-9148-9309A9A9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A179-2774-40BF-B509-D9C6098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A0DB-B739-400F-AADF-81C5853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5FFC-4A71-4A70-B2BB-D9836C58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F11E-7089-4BCF-8461-3D643B1B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F157-7703-4699-823D-CC805D4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C322-4F42-4D1F-BAF9-CF78D22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562-7870-4BCE-B6BD-D4F5D8D4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0B5D-4954-47A9-B5E2-F8F3C9B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3E829-E351-4932-983B-F1890C22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39CF-F8E5-40F2-8868-226A886A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571D-F88B-4E45-9DC9-EF469E02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D4EA-14D6-4810-828E-F0C9D30F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C113C-2141-4523-A761-1D3573C9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0897-1538-4765-A482-ED73969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D4AF-11CC-4BE3-A110-D129836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7D98-D532-46CA-8F22-A1EF35B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5D15-7282-4853-939C-6113B6B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E58-F6C5-47D1-AB43-F93ACBF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C811-91AE-4FEB-A5D6-EBC30FD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2FF1-75CE-406C-947F-E91FCA2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56508-13D4-434F-8C09-F0972CC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BB25-BEF2-4A1D-ADD2-C8782E7A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0121-2951-4689-977E-AD1003CB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733D-8010-436D-9175-6824F0E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8381-4B06-4DCB-AE09-7F8B4D80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F710-020F-49D6-91E5-5696E971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DBF4-CB62-4FA0-B005-468747C6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FCA35-E392-47A4-9145-E890997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FD6-3CC9-406C-B058-585C8F9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B5DB-7633-4A30-8BDC-2DFC94D9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011D-C332-482D-9429-FD120E7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5981-3BEE-4A0C-985D-D1ACBCE1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CA11-4379-4E47-A4C9-BDEF9FD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7AD8-593F-48B1-ABF5-FB59FE1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BA55D-C7B4-4929-93C1-BF41BD14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2443-AEEE-43A1-8AA3-D3D728E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91300-6ACF-4233-9264-ADADC1B0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3F8C3-8289-41FF-9E41-938DE66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174F9-AA4B-4E2A-995E-F87288E6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191-4178-4604-90A0-3C18275F0A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C22-BA2D-457C-BCE2-33D67CE8DD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981-3451-4B3C-951B-595F277CA7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90B-54E2-4CB4-AE5F-3B02AD7DD0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801-4366-4F91-ACE1-17DAECD308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FA44-BB2A-46AC-AA3F-000F81382A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5A4-39FB-4928-BE26-FF34DD17D9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801-CDD5-4D27-92EF-C2F489551E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ABF7-A139-4DF2-828C-96260397A0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CE35-E447-400E-9E35-1C1DF76348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2896-CCDF-4DD3-866D-D315716EF1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3C92-B878-4ACF-A28C-0D6153A7E0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4 Tam na golgotsk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ýšiná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golgotských výšin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preveľký div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a nás hriešnych Spasi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zomi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z ľudí môže pochop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ytrpel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k trónu slávy otvor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cestu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ás on zomrel, prijal tr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aše prečin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h za nás splatil na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aránok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 žiadny človek nezdol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mnoho bolo sná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slávny Víťaz, príbyt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dá nám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bude večne s n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54:33Z</dcterms:modified>
  <cp:revision>32</cp:revision>
  <dc:subject/>
  <dc:title>Je veľký náš Pán, on slávy je Kráľ Nech do všetkých strán  spev vrúcnych znie chvál.</dc:title>
</cp:coreProperties>
</file>